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1BE-F5AC-4DF2-AF4F-EB5FF6B39962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203-2342-4AB8-8811-54BA06D3E13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11B-FF96-47EB-A288-3A23FBC029C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1DA-F315-47DB-AA93-E0F81CE88AE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14DE-592E-49F0-96B3-9CA38D6CE962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6AB-679C-40A0-9DF4-58E177503506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D6F0-5FAB-4054-B070-6EA59994DC70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9A0-5740-419C-8D58-245D460E774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6B82-E6E4-4AF2-9D38-104FEBF1E3A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F69-77AA-431C-BA55-510A5884DB1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152D-D257-468F-A521-52A85AEF488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F52-C1CD-4749-9ED0-98AC89589802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FF2-08B5-4623-AEC7-2239B476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E7E-D138-4ECB-A3ED-5BFC78F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790-C64F-47E8-94FC-565C0DF5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D51-5DE8-4221-8E43-C4F1A6EB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1BC-9842-48FC-8E8B-C1FE874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D74-C9CE-418A-AD56-BBA6E71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D08-6B7D-4E38-A1FE-DD6F6B5E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41A-8CA6-4D89-B968-C3A7A3F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0FB-9F37-49BD-855C-A3F6520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658-530C-46C9-963A-3E4434A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72E-CFA5-487F-9C83-491AA98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269-04A4-4C43-9B88-CC301515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3A3-57FA-4148-8100-05F453FA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"/><Relationship Id="rId6" Type="http://schemas.openxmlformats.org/officeDocument/2006/relationships/image" Target="../media/image17.jpeg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image" Target="../media/image18.png"/><Relationship Id="rId11" Type="http://schemas.openxmlformats.org/officeDocument/2006/relationships/slide" Target="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0.jpeg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"/><Relationship Id="rId6" Type="http://schemas.openxmlformats.org/officeDocument/2006/relationships/image" Target="../media/image3.jpeg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24.png"/><Relationship Id="rId11" Type="http://schemas.openxmlformats.org/officeDocument/2006/relationships/slide" Target=""/><Relationship Id="rId12" Type="http://schemas.openxmlformats.org/officeDocument/2006/relationships/image" Target="../media/image25.png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6.jpeg"/><Relationship Id="rId5" Type="http://schemas.openxmlformats.org/officeDocument/2006/relationships/slide" Target=""/><Relationship Id="rId6" Type="http://schemas.openxmlformats.org/officeDocument/2006/relationships/image" Target="../media/image2.jpe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image" Target="../media/image18.png"/><Relationship Id="rId13" Type="http://schemas.openxmlformats.org/officeDocument/2006/relationships/slide" Target=""/><Relationship Id="rId14" Type="http://schemas.openxmlformats.org/officeDocument/2006/relationships/image" Target="../media/image27.png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8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" Target="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31.jpeg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21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12.jpeg"/><Relationship Id="rId5" Type="http://schemas.openxmlformats.org/officeDocument/2006/relationships/slide" Target="slide7.xml"/><Relationship Id="rId6" Type="http://schemas.openxmlformats.org/officeDocument/2006/relationships/slide" Target=""/><Relationship Id="rId7" Type="http://schemas.openxmlformats.org/officeDocument/2006/relationships/image" Target="../media/image13.jpe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 the question carefully and click the picture for the correc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 careful in choosing because it won’t move to the next slide if you clicked the wrong ans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Good luck. </a:t>
            </a:r>
            <a:r>
              <a:rPr b="0" lang="en-P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d9GcSuZJB_TsSrGufBQU4SHmgBhRvJQivWomtpdd0MFML6qLpqYJ3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9907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hild-nurse-costum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380880"/>
            <a:ext cx="1433520" cy="4267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690200" y="39625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HOS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403320" y="4952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97120" y="453240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oes the nurse works in a hospi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0"/>
          <a:stretch/>
        </p:blipFill>
        <p:spPr>
          <a:xfrm>
            <a:off x="139680" y="5084640"/>
            <a:ext cx="262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52600" y="5162400"/>
            <a:ext cx="25113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://ecx.images-amazon.com/images/I/31Rohl1qj-L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14400" y="228600"/>
            <a:ext cx="192420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sasd.k12.pa.us/uploadedImages/MarzolfES/SchoolHouse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81280" y="380880"/>
            <a:ext cx="5050080" cy="4381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373040" y="51055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R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571000" y="4800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4874040" y="571500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oes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riest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works in a school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-347760" y="5754600"/>
            <a:ext cx="2676600" cy="110988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11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2444760" y="5735520"/>
            <a:ext cx="2614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ANd9GcSuZJB_TsSrGufBQU4SHmgBhRvJQivWomtpdd0MFML6qLpqYJ3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0666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ages.halloweencostumes.com/toddler-future-doctor-costume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4120" y="685800"/>
            <a:ext cx="3047760" cy="4535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772560" y="449568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Does the docto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 works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in a hospi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7" descr=""/>
          <p:cNvPicPr/>
          <p:nvPr/>
        </p:nvPicPr>
        <p:blipFill>
          <a:blip r:embed="rId10"/>
          <a:stretch/>
        </p:blipFill>
        <p:spPr>
          <a:xfrm>
            <a:off x="152280" y="5105520"/>
            <a:ext cx="26272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5105520"/>
            <a:ext cx="190512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19160" y="3657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7800" y="5218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hoisshmira.files.wordpress.com/2010/09/the-house_burning-crown-heights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762120"/>
            <a:ext cx="4511520" cy="281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fireman-costume-for-kids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24480" y="609480"/>
            <a:ext cx="1525680" cy="3200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850680" y="4495680"/>
            <a:ext cx="43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n the fireman help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urning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house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7" descr=""/>
          <p:cNvPicPr/>
          <p:nvPr/>
        </p:nvPicPr>
        <p:blipFill>
          <a:blip r:embed="rId12"/>
          <a:stretch/>
        </p:blipFill>
        <p:spPr>
          <a:xfrm>
            <a:off x="228600" y="5334120"/>
            <a:ext cx="2627280" cy="110304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81280" y="5181480"/>
            <a:ext cx="2210040" cy="979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923040" y="373392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BURNING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485040" y="4038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FIR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3.gstatic.com/images?q=tbn:ANd9GcSyZnpnNbg7wAzERlRwvP0Js0drv4OAEPCwBa8oAI7N5tnBJJVQF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838080"/>
            <a:ext cx="3352680" cy="34894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66520" y="44197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ICK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485400" y="43434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816120" y="49528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n the farmer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help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ick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ki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9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-189000" y="5383080"/>
            <a:ext cx="2700360" cy="11098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2687760" y="5310360"/>
            <a:ext cx="2597040" cy="114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-!Baby%2520Farmer%2520Costume--227090411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095880" y="990720"/>
            <a:ext cx="225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228600"/>
            <a:ext cx="2535120" cy="3809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39640" y="43797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HEF OR 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5560" y="49528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an we see the chef working in a restaur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3040" y="36939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5791320"/>
            <a:ext cx="10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90920" y="579132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228600"/>
            <a:ext cx="4952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Dino Kids Stars Layout "/>
          <p:cNvPicPr/>
          <p:nvPr/>
        </p:nvPicPr>
        <p:blipFill>
          <a:blip r:embed="rId1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560" y="434340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the barber works in a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4419720" cy="294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sasd.k12.pa.us/uploadedImages/MarzolfES/SchoolHouse.jpg"/>
          <p:cNvPicPr/>
          <p:nvPr/>
        </p:nvPicPr>
        <p:blipFill>
          <a:blip r:embed="rId3"/>
          <a:stretch/>
        </p:blipFill>
        <p:spPr>
          <a:xfrm>
            <a:off x="5334120" y="228600"/>
            <a:ext cx="4059000" cy="3522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1680" y="3276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5760" y="3962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52578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Y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71800" y="52578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2" descr="Dino Kids Stars Layout "/>
          <p:cNvPicPr/>
          <p:nvPr/>
        </p:nvPicPr>
        <p:blipFill>
          <a:blip r:embed="rId1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img0.liveinternet.ru/images/attach/b/3/10/374/10374145_Spongebob_happy.jpg"/>
          <p:cNvPicPr/>
          <p:nvPr/>
        </p:nvPicPr>
        <p:blipFill>
          <a:blip r:embed="rId2"/>
          <a:stretch/>
        </p:blipFill>
        <p:spPr>
          <a:xfrm>
            <a:off x="1828800" y="2057400"/>
            <a:ext cx="508320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4" descr=""/>
          <p:cNvPicPr/>
          <p:nvPr/>
        </p:nvPicPr>
        <p:blipFill>
          <a:blip r:embed="rId3"/>
          <a:stretch/>
        </p:blipFill>
        <p:spPr>
          <a:xfrm>
            <a:off x="-6480" y="-182520"/>
            <a:ext cx="9156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ireman-costume-for-kid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609480"/>
            <a:ext cx="15253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8580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IRE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718960" y="49528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O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69960" y="498960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Who do we call when we are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mages.halloweencostumes.com/toddler-future-doctor-costume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05520" y="228600"/>
            <a:ext cx="304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Qcmv08oQJNfHXLYLoNWctfdhcvjfbyaEREMToEIVGllMOfd6pr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1066680"/>
            <a:ext cx="3124080" cy="24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olice-kid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248520" y="304920"/>
            <a:ext cx="2554200" cy="5438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832760" y="38098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248520" y="5638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OLICE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18520" y="460836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ho protects people from dang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stockphoto_3887397-carpenter-ki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304920"/>
            <a:ext cx="2409840" cy="361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-!Baby%2520Farmer%2520Costume--2270904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57800" y="685800"/>
            <a:ext cx="225576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71500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24960" y="426708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RP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254960" y="54864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ho builds our hou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7480" y="533412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o do we call for when we have toothach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8080" y="0"/>
            <a:ext cx="3333960" cy="317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2520" y="3733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00600" y="457200"/>
            <a:ext cx="434340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83040" y="36939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3960" y="54100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at does a vet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2120" y="0"/>
            <a:ext cx="2717640" cy="426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95680" y="609480"/>
            <a:ext cx="4048200" cy="26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46840" y="38098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Help the sick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76200" y="43038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Help the sick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5520" y="56386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at does a mail man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019920" y="1447920"/>
            <a:ext cx="28699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59000" y="48006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nding letters for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1143000"/>
            <a:ext cx="3886200" cy="258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47160" y="40752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ooking food for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 the questions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lick Yes if your answer to the question is yes. Click no if your answer to the question is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Good luck! </a:t>
            </a:r>
            <a:r>
              <a:rPr b="0" lang="en-P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228600"/>
            <a:ext cx="3122640" cy="327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3828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STRON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271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6960" y="480060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an we find the astronaut in outer sp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5638680"/>
            <a:ext cx="990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5638680"/>
            <a:ext cx="76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6469200" y="3770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UT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410080" y="380880"/>
            <a:ext cx="37339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2:21:44Z</dcterms:created>
  <dc:creator>Jalyzza Kim B. Veloso</dc:creator>
  <dc:description/>
  <dc:language>en-US</dc:language>
  <cp:lastModifiedBy>Jalyzza Kim B. Veloso</cp:lastModifiedBy>
  <dcterms:modified xsi:type="dcterms:W3CDTF">2011-02-15T02:17:38Z</dcterms:modified>
  <cp:revision>9</cp:revision>
  <dc:subject/>
  <dc:title>Slide 1</dc:title>
</cp:coreProperties>
</file>